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5D1-AC17-42E8-A19F-359D5D56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45E-B432-42D0-A639-090C9C8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084-B18F-4CDC-BD7B-7CA1A08C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F91-73ED-48B8-96C7-EC181F00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673-C5AE-4DF3-AD93-BF673DF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90B-D5E4-432B-B5C6-8BE1EE7E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890-2F8E-4CD4-AAFA-7DFD57F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B35-258F-4FB4-A809-354BE6D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1FE-A04B-408E-B9CB-5C4F06E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E2E-309F-4CE4-BC34-65748FF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E60-FB0B-46A7-B489-37A3959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A16-C2AA-4E23-9AA1-95AE484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C15-FF3D-4D68-BE77-55F280F22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extra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1857240"/>
            <a:ext cx="3714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ξιο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ξι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υθερ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χατος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κανος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χυρ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072040" y="2009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072040" y="26384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(h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072040" y="325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ful, capable,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072040" y="3871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72040" y="4486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,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07204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072040" y="573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71720" y="1214280"/>
            <a:ext cx="3714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υκος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ιπ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σος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λιγ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ουσι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κο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ιλ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929120" y="1366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,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29120" y="19954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9120" y="2610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929120" y="3228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929120" y="38433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little (pl.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4452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92912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929120" y="5753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d, friendly,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12859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160" y="171288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ς, μαρτυρος, ὁ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θ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29160" y="1866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429160" y="2495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,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429160" y="3110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28480" y="382428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57160" y="4324320"/>
            <a:ext cx="3286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ξαν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θαρ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ιζ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29160" y="4486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429160" y="5095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/declare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429160" y="572436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s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143000" y="127800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αι (2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ημαι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ιμα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δα (3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ι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57840" y="143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, I am 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57840" y="2063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it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857840" y="26733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e, r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857840" y="3287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857840" y="3902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714240" y="46735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ategory of its 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143000" y="542124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τε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nfinitive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857840" y="544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00040" y="142884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words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 to make them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428840" y="2506680"/>
            <a:ext cx="35002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ικ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ικ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α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αθαρ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ιστ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72040" y="2657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72040" y="3295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072040" y="3895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,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072040" y="4510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e, un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72040" y="514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believing, fai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42:05Z</dcterms:created>
  <dc:creator>Sarah</dc:creator>
  <dc:description/>
  <dc:language>en-US</dc:language>
  <cp:lastModifiedBy>Sarah</cp:lastModifiedBy>
  <dcterms:modified xsi:type="dcterms:W3CDTF">2009-07-09T17:08:08Z</dcterms:modified>
  <cp:revision>16</cp:revision>
  <dc:subject/>
  <dc:title>Slide 1</dc:title>
</cp:coreProperties>
</file>